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93A-8DF0-49B1-850E-58A864F8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C6B-5422-4B83-A2F1-FA2A62BC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AF4-AC3C-422A-8831-DD8AEB5D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79D-944A-478D-8E96-8C606DE7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7713-953C-4D8A-942C-A7DE0F68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DC25-56F3-464F-B48B-8004B4B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C78-79CE-4D3F-A76F-52067D3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92DC-2C3D-459B-8483-A4F8758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69A9-9D31-43C0-BEAC-C5C204A7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743F-32B8-41D5-BAA6-4159C80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D874-0CBC-4E69-9D37-B9E42A1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D32-9FD4-425E-8E41-F519751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576-0AA4-4B72-A7F9-3B772145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EE4-10FC-4206-BADC-6B60EE8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702B-0F0C-461D-8DFD-79E75CDD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D2A-6BBB-495E-9449-E14C6157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F06-893B-4B14-8CEA-B76CA5C8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C94-8FA4-4278-950D-0D6E23D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35C-7BB3-483D-9C4E-FF18553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778-5D0B-49D0-88B8-2A46BAB7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35B-1B3E-4BA8-97FF-DD10ECD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CA7-986E-4B45-A2E9-B6D7E5F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3CC-DB29-4316-89DE-88310393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9E4-5848-444C-810D-66684DB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64F-AC16-4421-9636-F675A126011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F0F-820A-4AF6-97D8-598EBE36DDFD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ccffff"/>
                </a:solidFill>
                <a:latin typeface="Showcard Gothic"/>
              </a:rPr>
              <a:t>Dyscypliny sztuk plastycznych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4343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ecff"/>
                </a:solidFill>
                <a:latin typeface="Snap ITC"/>
              </a:rPr>
              <a:t>Architektura, malarstwo, rysunek, rzeżba, grafika, rzemiosło artystyczne, wzornictwo przemysłowe, fotografia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howcard Gothic"/>
              </a:rPr>
              <a:t>Inne dyscypliny plastyczne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Snap ITC"/>
              </a:rPr>
              <a:t>Wśród dyscyplin plastycznych możemy też wyróżnić i omówić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Snap ITC"/>
              </a:rPr>
              <a:t>RZEMIOSŁO ARTYSTYCZ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Snap ITC"/>
              </a:rPr>
              <a:t>WZORNICTWO PRZEMYSŁOW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nap ITC"/>
              </a:rPr>
              <a:t>Prezentację opracował:</a:t>
            </a:r>
            <a:br>
              <a:rPr sz="4400"/>
            </a:br>
            <a:r>
              <a:rPr b="0" lang="pl-PL" sz="4400" spc="-1" strike="noStrike">
                <a:solidFill>
                  <a:srgbClr val="ccffff"/>
                </a:solidFill>
                <a:latin typeface="Snap ITC"/>
              </a:rPr>
              <a:t>KRZYSZTOF CHOJA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Kristen ITC"/>
              </a:rPr>
              <a:t>Jestem nauczycielem sztuki i historii w Publicznym Gimnazjum w Byczynie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Kristen ITC"/>
              </a:rPr>
              <a:t>Mój staż w zawodzie to 6 l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Kristen ITC"/>
              </a:rPr>
              <a:t>Zajmuję się również twórczością własn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MVC-001S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howcard Gothic"/>
              </a:rPr>
              <a:t>architektu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To ukształtowana przez człowieka przestrzeń, w której żyjem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rzedmiotem działań architektonicznych są mieszkania, gmachy użyteczności publicznej, gmachy sakralne, budownictwo przemysłowe, obronne itp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Każdy obiekt jest połączeniem funkcji, formy, i konstrukcj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winna ona stwarzać najlepsze dla człowieka warunki bytowania w określonym środowisku naturalnym. Musi dostosowywać się do zmian w życiu człowieka i do warunków cywilizacyjnyc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dstawowe materiały budowlane to: drewno, kamień, cegła, metal, szkło itp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wszechnie znani architekci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ndrea Pallad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ntonio Gaud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Le Corbusi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Bartłomiej Berrecc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0(1)" descr=""/>
          <p:cNvPicPr/>
          <p:nvPr/>
        </p:nvPicPr>
        <p:blipFill>
          <a:blip r:embed="rId2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0(1)" descr=""/>
          <p:cNvPicPr/>
          <p:nvPr/>
        </p:nvPicPr>
        <p:blipFill>
          <a:blip r:embed="rId3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1" name="0" descr=""/>
          <p:cNvPicPr/>
          <p:nvPr/>
        </p:nvPicPr>
        <p:blipFill>
          <a:blip r:embed="rId4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2" name="0(1)" descr=""/>
          <p:cNvPicPr/>
          <p:nvPr/>
        </p:nvPicPr>
        <p:blipFill>
          <a:blip r:embed="rId5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53604-4040" descr=""/>
          <p:cNvPicPr/>
          <p:nvPr/>
        </p:nvPicPr>
        <p:blipFill>
          <a:blip r:embed="rId6"/>
          <a:stretch/>
        </p:blipFill>
        <p:spPr>
          <a:xfrm>
            <a:off x="4648320" y="1752480"/>
            <a:ext cx="4190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ffff"/>
                </a:solidFill>
                <a:latin typeface="Snap ITC"/>
              </a:rPr>
              <a:t>Galeria architektury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17551-139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2502000" cy="1611360"/>
          </a:xfrm>
          <a:prstGeom prst="rect">
            <a:avLst/>
          </a:prstGeom>
          <a:ln w="0">
            <a:noFill/>
          </a:ln>
        </p:spPr>
      </p:pic>
      <p:pic>
        <p:nvPicPr>
          <p:cNvPr id="97" name="CasaMila" descr=""/>
          <p:cNvPicPr/>
          <p:nvPr/>
        </p:nvPicPr>
        <p:blipFill>
          <a:blip r:embed="rId3"/>
          <a:srcRect l="2817" t="3227" r="4738" b="6453"/>
          <a:stretch/>
        </p:blipFill>
        <p:spPr>
          <a:xfrm>
            <a:off x="5486400" y="1295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arkady" descr=""/>
          <p:cNvPicPr/>
          <p:nvPr/>
        </p:nvPicPr>
        <p:blipFill>
          <a:blip r:embed="rId4"/>
          <a:srcRect l="5401" t="3731" r="18920" b="21743"/>
          <a:stretch/>
        </p:blipFill>
        <p:spPr>
          <a:xfrm>
            <a:off x="1828800" y="3809880"/>
            <a:ext cx="3429000" cy="2492640"/>
          </a:xfrm>
          <a:prstGeom prst="rect">
            <a:avLst/>
          </a:prstGeom>
          <a:ln w="0">
            <a:noFill/>
          </a:ln>
        </p:spPr>
      </p:pic>
      <p:pic>
        <p:nvPicPr>
          <p:cNvPr id="99" name="80447-5870" descr=""/>
          <p:cNvPicPr/>
          <p:nvPr/>
        </p:nvPicPr>
        <p:blipFill>
          <a:blip r:embed="rId5"/>
          <a:srcRect l="8694" t="14197" r="19570" b="0"/>
          <a:stretch/>
        </p:blipFill>
        <p:spPr>
          <a:xfrm>
            <a:off x="5715000" y="4267080"/>
            <a:ext cx="2895480" cy="1765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981080"/>
            <a:ext cx="2819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1.Antonio Gau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2.Antonio Gau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3.Bartłomiej Berrec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4. La Corbus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ffff"/>
                </a:solidFill>
                <a:latin typeface="Showcard Gothic"/>
              </a:rPr>
              <a:t>Malarstw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Malarstwo to kierunek plastyczny posługujący się głównie plamą barwną i lini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Malarstwo to najstarsza i najpowszechniejsza z dyscyplin plastycznyc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Dziedzinę tą dzielimy n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malarstwo mokre i such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Rodzaje mokre t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akwarela, gwasz, tempera, plakatówka, akryl, olej, fresk itp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Rodzaje suche t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witraż, pastel, mozaika, collag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Znani powszechnie twórcy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Leonardo da Vinc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Vincent van Gog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Pablo Picass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Henryk Stażew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291_39" descr=""/>
          <p:cNvPicPr/>
          <p:nvPr/>
        </p:nvPicPr>
        <p:blipFill>
          <a:blip r:embed="rId2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nap ITC"/>
              </a:rPr>
              <a:t>Galeria malarstw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Kristen ITC"/>
              </a:rPr>
              <a:t>1.Malarstwo olej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Kristen ITC"/>
              </a:rPr>
              <a:t>2.Malarstwo akwarelow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Kristen ITC"/>
              </a:rPr>
              <a:t>3.Malarstwo gwasz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27_6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290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291_48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3927240" cy="2589120"/>
          </a:xfrm>
          <a:prstGeom prst="rect">
            <a:avLst/>
          </a:prstGeom>
          <a:ln w="0">
            <a:noFill/>
          </a:ln>
        </p:spPr>
      </p:pic>
      <p:pic>
        <p:nvPicPr>
          <p:cNvPr id="112" name="165_2" descr=""/>
          <p:cNvPicPr/>
          <p:nvPr/>
        </p:nvPicPr>
        <p:blipFill>
          <a:blip r:embed="rId4"/>
          <a:stretch/>
        </p:blipFill>
        <p:spPr>
          <a:xfrm>
            <a:off x="5181480" y="1828800"/>
            <a:ext cx="288144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4880" y="29368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howcard Gothic"/>
              </a:rPr>
              <a:t>Rysune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Rysunek to dyscyplina posługująca się lini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Linie mogą mieć różne formy,   np. zygzakowata, kropkowana, kontur itp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Rysunek przez wieki był dziedziną wspierającą inne dyscypliny plastycz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Główne narzędzia rysunkowe to: ołówki, kredki, rylce, patyki i in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Od początku XX w. zauważalne jest wyodrębnienie się rysunku z pośród innych dyscypli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wszechnie znani rysownicy t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Franciszek Starowiey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Szymon Kobyliń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zdjecie__72_jpg" descr=""/>
          <p:cNvPicPr/>
          <p:nvPr/>
        </p:nvPicPr>
        <p:blipFill>
          <a:blip r:embed="rId2"/>
          <a:srcRect l="0" t="14814" r="24990" b="14814"/>
          <a:stretch/>
        </p:blipFill>
        <p:spPr>
          <a:xfrm>
            <a:off x="5181480" y="2057400"/>
            <a:ext cx="2820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howcard Gothic"/>
              </a:rPr>
              <a:t>Rzeż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Jej dzieła są trójwymiarowe.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Stosowane materiały to:      kamień, metale, drewno, gips, glina, tworzywa sztuczne i wiele innyc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Rzeżbę dzielimy na pełną, półpełną , płaskorzeżbę i relie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Tematyka rzeżbiarska nie różni się od tematyki w innych dyscyplinach plastycznych, możemy jednak wyróżnić rodzaje wg funkcji- rzeżbę: kultową, wotywną, nagrobkową, portretową, ogrodową, architektoniczną itp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wszechnie znani rzeżbiarz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Michał Anio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ugust Rodin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Xawery Dunikowsk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0(1)" descr=""/>
          <p:cNvPicPr/>
          <p:nvPr/>
        </p:nvPicPr>
        <p:blipFill>
          <a:blip r:embed="rId2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2" name="43782-3297" descr=""/>
          <p:cNvPicPr/>
          <p:nvPr/>
        </p:nvPicPr>
        <p:blipFill>
          <a:blip r:embed="rId3"/>
          <a:srcRect l="0" t="3707" r="10819" b="0"/>
          <a:stretch/>
        </p:blipFill>
        <p:spPr>
          <a:xfrm>
            <a:off x="5410080" y="1828800"/>
            <a:ext cx="242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nap ITC"/>
              </a:rPr>
              <a:t>Grafik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sługuje się głównie plamą i kresk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Dzieli się na grafikę warsztatową i użytkow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dstawową cechą grafiki jest jej powtarzalność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W klasycznej postaci jest sztuką czarno-biał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Techniki graficzne dzielimy na: wypukłe(np.. Drzeworyt, gipsoryt, linoryt, ksero itp.) oraz wklęsłe (np.miedzioryt, mezzotinta, staloryt itp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Do grafiki użytkowej zaliczamy: ilustracje, plakaty, banknoty, znaczki pocztowe, ekslibris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Szczególnie obecnie rozwija się grafika komputerow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wszechnie znani graficy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lbrecht Dur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Rembrand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Józef Gielnia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artyscidurer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12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Showcard Gothic"/>
              </a:rPr>
              <a:t>fotograf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O fotografii mówimy również jako o dziedzinie sztuki i to równo prawnej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Fotografia zastąpiła częściowo funkcję rysunk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Fotografia rejestruje więcej niż oko ludzkie co wzbogaca naszą wiedzę o świeci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Dzielimy ją na: artystyczną (np.fotomontaż, czarno-biała i barwna) oraz użytkowa (np..reportaż, naukowa, kosmiczna itp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Po 1925 – powszechny rozwój fotografi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Znani fotograficy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nne Ged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Anne Leibowit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      </a:t>
            </a:r>
            <a:r>
              <a:rPr b="0" lang="pl-PL" sz="1400" spc="-1" strike="noStrike">
                <a:solidFill>
                  <a:srgbClr val="ffffff"/>
                </a:solidFill>
                <a:latin typeface="Kristen ITC"/>
              </a:rPr>
              <a:t>- Edward Hartwi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H02071U" descr=""/>
          <p:cNvPicPr/>
          <p:nvPr/>
        </p:nvPicPr>
        <p:blipFill>
          <a:blip r:embed="rId2"/>
          <a:stretch/>
        </p:blipFill>
        <p:spPr>
          <a:xfrm>
            <a:off x="5191200" y="198108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03:09Z</dcterms:created>
  <dc:creator>MEN</dc:creator>
  <dc:description/>
  <dc:language>en-US</dc:language>
  <cp:lastModifiedBy>MEN</cp:lastModifiedBy>
  <dcterms:modified xsi:type="dcterms:W3CDTF">2001-12-07T11:59:19Z</dcterms:modified>
  <cp:revision>6</cp:revision>
  <dc:subject/>
  <dc:title>Dyscypliny sztuk plastycznych</dc:title>
</cp:coreProperties>
</file>